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19E-5216-4F33-A879-209D7CF6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834-9F7D-425F-8CA9-81C8D673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1FF-F656-4151-B7C8-EC8E9C38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9AD-78EE-4490-B1A5-4496D4B0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073-47AE-43E8-9425-423EE000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A8C-3791-4149-9ED4-F6E1A132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E0B-09AB-4468-8F2A-3C3B05DF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128-8299-4CD5-8E35-B6FF1888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C29-B4C4-487E-8C36-688A2E6B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A93-8FB1-4354-BBD4-88386C3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CD3-2141-4A78-A657-10129FD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6D6-3B67-4258-A4CA-F34FD0C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9F9B-CFBE-4EF8-97EE-E26837FC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181764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476360" y="299736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tricciones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141720"/>
            <a:ext cx="2663640" cy="1079280"/>
          </a:xfrm>
          <a:custGeom>
            <a:avLst/>
            <a:gdLst/>
            <a:ahLst/>
            <a:rect l="l" t="t" r="r" b="b"/>
            <a:pathLst>
              <a:path w="1678" h="680">
                <a:moveTo>
                  <a:pt x="0" y="680"/>
                </a:moveTo>
                <a:lnTo>
                  <a:pt x="0" y="0"/>
                </a:lnTo>
                <a:lnTo>
                  <a:pt x="1587" y="453"/>
                </a:lnTo>
                <a:lnTo>
                  <a:pt x="1678" y="680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378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42210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3320" y="3929040"/>
            <a:ext cx="90720" cy="209520"/>
          </a:xfrm>
          <a:custGeom>
            <a:avLst/>
            <a:gdLst/>
            <a:ahLst/>
            <a:rect l="l" t="t" r="r" b="b"/>
            <a:pathLst>
              <a:path w="57" h="132">
                <a:moveTo>
                  <a:pt x="57" y="13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403280" y="181764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476360" y="299736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tricciones de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=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4360" y="2924280"/>
            <a:ext cx="215640" cy="2087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a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75564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386064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371628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O ES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116000" y="2781360"/>
          <a:ext cx="6121440" cy="374328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469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684360" y="2852640"/>
            <a:ext cx="215640" cy="208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" y="1628640"/>
            <a:ext cx="62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MAX: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 Z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4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3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– M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4221000"/>
            <a:ext cx="26636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189000"/>
          <a:ext cx="7530840" cy="1185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l-GR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4000" y="981000"/>
          <a:ext cx="7530840" cy="20084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 - M 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3995640" y="25653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916280"/>
            <a:ext cx="217440" cy="142560"/>
          </a:xfrm>
          <a:prstGeom prst="leftArrow">
            <a:avLst>
              <a:gd name="adj1" fmla="val 50000"/>
              <a:gd name="adj2" fmla="val 3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177336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4000" y="2924280"/>
          <a:ext cx="7530840" cy="2247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 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24000" y="5013360"/>
          <a:ext cx="7530840" cy="198288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203640" y="472428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64500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50028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4221000"/>
            <a:ext cx="26636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42210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149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S PARTI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LUCIÓN ALTERN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LUCIÓN DEGENE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OLITOPO ABIE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LUCIÓN INCOMPA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332000" y="1125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47636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–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=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2924280"/>
            <a:ext cx="215640" cy="2087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a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8480" y="3135240"/>
            <a:ext cx="310536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763640" y="4581360"/>
            <a:ext cx="2664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3141720"/>
            <a:ext cx="310500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23560" y="422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522936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306864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350028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8480" y="3135240"/>
            <a:ext cx="310536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763640" y="4581360"/>
            <a:ext cx="2664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141720"/>
            <a:ext cx="310500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23560" y="422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4160" y="14130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OLUCIONES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3573360"/>
            <a:ext cx="1297080" cy="1008000"/>
          </a:xfrm>
          <a:custGeom>
            <a:avLst/>
            <a:gdLst/>
            <a:ahLst/>
            <a:rect l="l" t="t" r="r" b="b"/>
            <a:pathLst>
              <a:path w="3248" h="2511">
                <a:moveTo>
                  <a:pt x="0" y="0"/>
                </a:moveTo>
                <a:lnTo>
                  <a:pt x="3248" y="251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6360" y="522936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19280" y="306864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3500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98480" y="3135240"/>
            <a:ext cx="310536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763640" y="4581360"/>
            <a:ext cx="2664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92360" y="3141720"/>
            <a:ext cx="310500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23560" y="422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3640" y="3573360"/>
            <a:ext cx="1297080" cy="1008000"/>
          </a:xfrm>
          <a:custGeom>
            <a:avLst/>
            <a:gdLst/>
            <a:ahLst/>
            <a:rect l="l" t="t" r="r" b="b"/>
            <a:pathLst>
              <a:path w="3248" h="2511">
                <a:moveTo>
                  <a:pt x="0" y="0"/>
                </a:moveTo>
                <a:lnTo>
                  <a:pt x="3248" y="251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522936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306864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3500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692360" y="4581360"/>
            <a:ext cx="273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3640" y="3645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692000" y="3573360"/>
            <a:ext cx="1439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692360" y="4149720"/>
            <a:ext cx="2232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4149720"/>
            <a:ext cx="0" cy="1150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39640" y="1268280"/>
          <a:ext cx="8280360" cy="2767320"/>
        </p:xfrm>
        <a:graphic>
          <a:graphicData uri="http://schemas.openxmlformats.org/drawingml/2006/table">
            <a:tbl>
              <a:tblPr/>
              <a:tblGrid>
                <a:gridCol w="790560"/>
                <a:gridCol w="865440"/>
                <a:gridCol w="1083960"/>
                <a:gridCol w="912960"/>
                <a:gridCol w="912960"/>
                <a:gridCol w="912600"/>
                <a:gridCol w="91440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6372360" y="3645000"/>
            <a:ext cx="142920" cy="215640"/>
          </a:xfrm>
          <a:prstGeom prst="upArrow">
            <a:avLst>
              <a:gd name="adj1" fmla="val 50000"/>
              <a:gd name="adj2" fmla="val 37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2205000"/>
            <a:ext cx="217440" cy="144360"/>
          </a:xfrm>
          <a:prstGeom prst="leftArrow">
            <a:avLst>
              <a:gd name="adj1" fmla="val 50000"/>
              <a:gd name="adj2" fmla="val 376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7640" y="2060640"/>
            <a:ext cx="503280" cy="431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539640" y="1268280"/>
          <a:ext cx="8280360" cy="4743720"/>
        </p:xfrm>
        <a:graphic>
          <a:graphicData uri="http://schemas.openxmlformats.org/drawingml/2006/table">
            <a:tbl>
              <a:tblPr/>
              <a:tblGrid>
                <a:gridCol w="790560"/>
                <a:gridCol w="865080"/>
                <a:gridCol w="1084320"/>
                <a:gridCol w="912960"/>
                <a:gridCol w="912600"/>
                <a:gridCol w="912960"/>
                <a:gridCol w="91440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800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6720" y="306864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0920" y="306864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1780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7420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03640" y="2133720"/>
            <a:ext cx="100836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5300640"/>
            <a:ext cx="29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32720" y="602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51640" y="5157720"/>
            <a:ext cx="64764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800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6360" y="3071880"/>
            <a:ext cx="3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360" y="306864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2908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6000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8800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4108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3308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3272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602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89920" y="566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800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6360" y="3071880"/>
            <a:ext cx="3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640" y="306864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0216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327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928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544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029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3272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34160" y="6037200"/>
            <a:ext cx="2090880" cy="1800"/>
          </a:xfrm>
          <a:custGeom>
            <a:avLst/>
            <a:gdLst/>
            <a:ahLst/>
            <a:rect l="l" t="t" r="r" b="b"/>
            <a:pathLst>
              <a:path w="1317" h="1">
                <a:moveTo>
                  <a:pt x="0" y="0"/>
                </a:move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51640" y="51577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7236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64720" y="30686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64360" y="306864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0216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327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5928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0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8544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0436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8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32720" y="220500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61160" y="5300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6037200"/>
            <a:ext cx="2090880" cy="1800"/>
          </a:xfrm>
          <a:custGeom>
            <a:avLst/>
            <a:gdLst/>
            <a:ahLst/>
            <a:rect l="l" t="t" r="r" b="b"/>
            <a:pathLst>
              <a:path w="1317" h="1">
                <a:moveTo>
                  <a:pt x="0" y="0"/>
                </a:move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236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64720" y="30686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64360" y="306864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0216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327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8544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0436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220500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1200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34160" y="6037200"/>
            <a:ext cx="2090880" cy="1800"/>
          </a:xfrm>
          <a:custGeom>
            <a:avLst/>
            <a:gdLst/>
            <a:ahLst/>
            <a:rect l="l" t="t" r="r" b="b"/>
            <a:pathLst>
              <a:path w="1317" h="1">
                <a:moveTo>
                  <a:pt x="0" y="0"/>
                </a:move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–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5564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386064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371628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VULNERA EL PRINCIPIO DE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1332000" y="1125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5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147636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64000" y="189000"/>
            <a:ext cx="1655640" cy="6192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2268000" y="549360"/>
            <a:ext cx="3095640" cy="55418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58120" y="119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86480" y="119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2349360"/>
            <a:ext cx="3240000" cy="2951280"/>
          </a:xfrm>
          <a:custGeom>
            <a:avLst/>
            <a:gdLst/>
            <a:ahLst/>
            <a:rect l="l" t="t" r="r" b="b"/>
            <a:pathLst>
              <a:path w="2041" h="1859">
                <a:moveTo>
                  <a:pt x="0" y="1859"/>
                </a:moveTo>
                <a:lnTo>
                  <a:pt x="0" y="0"/>
                </a:lnTo>
                <a:lnTo>
                  <a:pt x="1769" y="1406"/>
                </a:lnTo>
                <a:lnTo>
                  <a:pt x="2041" y="1859"/>
                </a:lnTo>
                <a:lnTo>
                  <a:pt x="0" y="185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522936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19280" y="2276640"/>
            <a:ext cx="144360" cy="142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39640" y="1268280"/>
          <a:ext cx="8280360" cy="2767320"/>
        </p:xfrm>
        <a:graphic>
          <a:graphicData uri="http://schemas.openxmlformats.org/drawingml/2006/table">
            <a:tbl>
              <a:tblPr/>
              <a:tblGrid>
                <a:gridCol w="790560"/>
                <a:gridCol w="865440"/>
                <a:gridCol w="1083960"/>
                <a:gridCol w="912960"/>
                <a:gridCol w="912960"/>
                <a:gridCol w="912600"/>
                <a:gridCol w="91440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3635280" y="3645000"/>
            <a:ext cx="142920" cy="215640"/>
          </a:xfrm>
          <a:prstGeom prst="upArrow">
            <a:avLst>
              <a:gd name="adj1" fmla="val 50000"/>
              <a:gd name="adj2" fmla="val 37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54880" y="530064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MPATE DE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292720" y="2421000"/>
            <a:ext cx="266400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885080" y="1628640"/>
          <a:ext cx="974880" cy="1581120"/>
        </p:xfrm>
        <a:graphic>
          <a:graphicData uri="http://schemas.openxmlformats.org/drawingml/2006/table">
            <a:tbl>
              <a:tblPr/>
              <a:tblGrid>
                <a:gridCol w="974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7956720" y="2060640"/>
            <a:ext cx="86328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611280" y="189000"/>
          <a:ext cx="7705800" cy="1185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055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11280" y="981000"/>
          <a:ext cx="7705800" cy="20084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055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4356000" y="25653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148428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1341360"/>
            <a:ext cx="504720" cy="5032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11280" y="2924280"/>
          <a:ext cx="7777080" cy="201600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12716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611280" y="4842000"/>
          <a:ext cx="7777080" cy="200952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12716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148360" y="4508640"/>
            <a:ext cx="144360" cy="215640"/>
          </a:xfrm>
          <a:prstGeom prst="upArrow">
            <a:avLst>
              <a:gd name="adj1" fmla="val 50000"/>
              <a:gd name="adj2" fmla="val 373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386064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03640" y="3716280"/>
            <a:ext cx="432000" cy="4334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1187280" y="1557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8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1403280" y="263700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72320" y="47628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ITOP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42920" y="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692360" y="259920"/>
            <a:ext cx="2735280" cy="2089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765000"/>
            <a:ext cx="3960720" cy="4535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692360" y="1916280"/>
            <a:ext cx="6767280" cy="230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26480" y="443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2840" y="2276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34120" y="765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4149720"/>
            <a:ext cx="144360" cy="142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9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292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94036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228600"/>
            <a:ext cx="5837040" cy="3166920"/>
          </a:xfrm>
          <a:custGeom>
            <a:avLst/>
            <a:gdLst/>
            <a:ahLst/>
            <a:rect l="l" t="t" r="r" b="b"/>
            <a:pathLst>
              <a:path w="3677" h="1995">
                <a:moveTo>
                  <a:pt x="1179" y="20"/>
                </a:moveTo>
                <a:lnTo>
                  <a:pt x="0" y="927"/>
                </a:lnTo>
                <a:lnTo>
                  <a:pt x="968" y="1995"/>
                </a:lnTo>
                <a:lnTo>
                  <a:pt x="3674" y="1063"/>
                </a:lnTo>
                <a:cubicBezTo>
                  <a:pt x="3674" y="1051"/>
                  <a:pt x="3677" y="1038"/>
                  <a:pt x="3675" y="1026"/>
                </a:cubicBezTo>
                <a:cubicBezTo>
                  <a:pt x="3674" y="1016"/>
                  <a:pt x="3665" y="1009"/>
                  <a:pt x="3665" y="999"/>
                </a:cubicBezTo>
                <a:cubicBezTo>
                  <a:pt x="3665" y="968"/>
                  <a:pt x="3672" y="938"/>
                  <a:pt x="3675" y="907"/>
                </a:cubicBezTo>
                <a:cubicBezTo>
                  <a:pt x="3659" y="864"/>
                  <a:pt x="3645" y="873"/>
                  <a:pt x="3601" y="862"/>
                </a:cubicBezTo>
                <a:cubicBezTo>
                  <a:pt x="3583" y="850"/>
                  <a:pt x="3565" y="837"/>
                  <a:pt x="3547" y="825"/>
                </a:cubicBezTo>
                <a:cubicBezTo>
                  <a:pt x="3538" y="819"/>
                  <a:pt x="3519" y="807"/>
                  <a:pt x="3519" y="807"/>
                </a:cubicBezTo>
                <a:cubicBezTo>
                  <a:pt x="3467" y="738"/>
                  <a:pt x="3418" y="680"/>
                  <a:pt x="3345" y="633"/>
                </a:cubicBezTo>
                <a:cubicBezTo>
                  <a:pt x="3331" y="591"/>
                  <a:pt x="3309" y="552"/>
                  <a:pt x="3263" y="542"/>
                </a:cubicBezTo>
                <a:cubicBezTo>
                  <a:pt x="3230" y="535"/>
                  <a:pt x="3163" y="523"/>
                  <a:pt x="3163" y="523"/>
                </a:cubicBezTo>
                <a:cubicBezTo>
                  <a:pt x="3157" y="514"/>
                  <a:pt x="3152" y="504"/>
                  <a:pt x="3144" y="496"/>
                </a:cubicBezTo>
                <a:cubicBezTo>
                  <a:pt x="3133" y="485"/>
                  <a:pt x="3118" y="480"/>
                  <a:pt x="3108" y="469"/>
                </a:cubicBezTo>
                <a:cubicBezTo>
                  <a:pt x="3093" y="452"/>
                  <a:pt x="3086" y="430"/>
                  <a:pt x="3071" y="414"/>
                </a:cubicBezTo>
                <a:cubicBezTo>
                  <a:pt x="3065" y="408"/>
                  <a:pt x="3059" y="401"/>
                  <a:pt x="3053" y="395"/>
                </a:cubicBezTo>
                <a:cubicBezTo>
                  <a:pt x="3037" y="346"/>
                  <a:pt x="3015" y="306"/>
                  <a:pt x="2971" y="277"/>
                </a:cubicBezTo>
                <a:cubicBezTo>
                  <a:pt x="2956" y="283"/>
                  <a:pt x="2941" y="294"/>
                  <a:pt x="2925" y="295"/>
                </a:cubicBezTo>
                <a:cubicBezTo>
                  <a:pt x="2820" y="301"/>
                  <a:pt x="2759" y="279"/>
                  <a:pt x="2678" y="222"/>
                </a:cubicBezTo>
                <a:cubicBezTo>
                  <a:pt x="2649" y="202"/>
                  <a:pt x="2620" y="154"/>
                  <a:pt x="2587" y="130"/>
                </a:cubicBezTo>
                <a:cubicBezTo>
                  <a:pt x="2567" y="116"/>
                  <a:pt x="2543" y="108"/>
                  <a:pt x="2523" y="94"/>
                </a:cubicBezTo>
                <a:cubicBezTo>
                  <a:pt x="2413" y="104"/>
                  <a:pt x="2302" y="103"/>
                  <a:pt x="2193" y="121"/>
                </a:cubicBezTo>
                <a:cubicBezTo>
                  <a:pt x="2147" y="118"/>
                  <a:pt x="2101" y="122"/>
                  <a:pt x="2056" y="112"/>
                </a:cubicBezTo>
                <a:cubicBezTo>
                  <a:pt x="2044" y="109"/>
                  <a:pt x="2039" y="93"/>
                  <a:pt x="2029" y="85"/>
                </a:cubicBezTo>
                <a:cubicBezTo>
                  <a:pt x="1994" y="58"/>
                  <a:pt x="1960" y="34"/>
                  <a:pt x="1919" y="21"/>
                </a:cubicBezTo>
                <a:cubicBezTo>
                  <a:pt x="1822" y="37"/>
                  <a:pt x="1734" y="80"/>
                  <a:pt x="1636" y="94"/>
                </a:cubicBezTo>
                <a:cubicBezTo>
                  <a:pt x="1606" y="0"/>
                  <a:pt x="1500" y="57"/>
                  <a:pt x="1425" y="75"/>
                </a:cubicBezTo>
                <a:cubicBezTo>
                  <a:pt x="1375" y="77"/>
                  <a:pt x="1361" y="72"/>
                  <a:pt x="1334" y="75"/>
                </a:cubicBezTo>
                <a:cubicBezTo>
                  <a:pt x="1308" y="78"/>
                  <a:pt x="1288" y="97"/>
                  <a:pt x="1270" y="94"/>
                </a:cubicBezTo>
                <a:cubicBezTo>
                  <a:pt x="1253" y="91"/>
                  <a:pt x="1240" y="65"/>
                  <a:pt x="1224" y="57"/>
                </a:cubicBezTo>
                <a:cubicBezTo>
                  <a:pt x="1174" y="33"/>
                  <a:pt x="1195" y="70"/>
                  <a:pt x="1179" y="2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95640" y="3357720"/>
            <a:ext cx="1447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47640" y="234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76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47640" y="155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9080" y="220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89080" y="1413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763640" y="3429000"/>
            <a:ext cx="2232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40360" y="3141720"/>
            <a:ext cx="718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79769E-006 L 0.45677 -0.20462 E">
                                      <p:cBhvr>
                                        <p:cTn id="39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539640" y="1628640"/>
          <a:ext cx="8280360" cy="2767320"/>
        </p:xfrm>
        <a:graphic>
          <a:graphicData uri="http://schemas.openxmlformats.org/drawingml/2006/table">
            <a:tbl>
              <a:tblPr/>
              <a:tblGrid>
                <a:gridCol w="790560"/>
                <a:gridCol w="720720"/>
                <a:gridCol w="255600"/>
                <a:gridCol w="973080"/>
                <a:gridCol w="860760"/>
                <a:gridCol w="576000"/>
                <a:gridCol w="1079640"/>
                <a:gridCol w="113652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0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8.666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219640" y="4076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68680" y="522936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NO HAY NINGÚN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292720" y="2924280"/>
            <a:ext cx="2592360" cy="22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812000" y="1989000"/>
          <a:ext cx="974880" cy="1581120"/>
        </p:xfrm>
        <a:graphic>
          <a:graphicData uri="http://schemas.openxmlformats.org/drawingml/2006/table">
            <a:tbl>
              <a:tblPr/>
              <a:tblGrid>
                <a:gridCol w="974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7885080" y="2421000"/>
            <a:ext cx="863640" cy="107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92360" y="83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a.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187280" y="1557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8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1403280" y="263700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74480" y="47628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ÓN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42920" y="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692360" y="691920"/>
            <a:ext cx="2735280" cy="2089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141720"/>
            <a:ext cx="4032000" cy="2158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1692360" y="1916280"/>
            <a:ext cx="6767280" cy="230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26480" y="443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78480" y="1844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63200" y="263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9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292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94036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234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47640" y="76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47640" y="155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1692360" y="333360"/>
            <a:ext cx="0" cy="496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419640" y="4221000"/>
            <a:ext cx="288720" cy="503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2916000" y="1125360"/>
            <a:ext cx="360360" cy="43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6720" y="3068640"/>
            <a:ext cx="21600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324000" y="1628640"/>
          <a:ext cx="8424720" cy="2525760"/>
        </p:xfrm>
        <a:graphic>
          <a:graphicData uri="http://schemas.openxmlformats.org/drawingml/2006/table">
            <a:tbl>
              <a:tblPr/>
              <a:tblGrid>
                <a:gridCol w="695160"/>
                <a:gridCol w="633600"/>
                <a:gridCol w="225360"/>
                <a:gridCol w="893520"/>
                <a:gridCol w="719280"/>
                <a:gridCol w="506520"/>
                <a:gridCol w="949320"/>
                <a:gridCol w="1000080"/>
                <a:gridCol w="1000080"/>
                <a:gridCol w="998640"/>
                <a:gridCol w="8031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3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23.333,33M + 18.222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889 + 0,333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123 + 0,968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89 + 0,666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9" name=""/>
          <p:cNvSpPr/>
          <p:nvPr/>
        </p:nvSpPr>
        <p:spPr>
          <a:xfrm>
            <a:off x="3492360" y="83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a.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75520" y="5229360"/>
            <a:ext cx="49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ODOS LOS z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580000" y="386028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9640" y="494172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ARIABLE ARTIFICIAL EN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1402920" y="2997000"/>
            <a:ext cx="36036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16000" y="2781360"/>
          <a:ext cx="6121440" cy="374328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469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–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84360" y="2852640"/>
            <a:ext cx="215640" cy="208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800" y="1628640"/>
            <a:ext cx="654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MAX: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 Z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4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3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– M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00"/>
                </a:solidFill>
                <a:latin typeface="Arial"/>
              </a:rPr>
              <a:t>PROBLEMA DE MINIM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3640" y="1536840"/>
            <a:ext cx="5212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cc00"/>
                </a:solidFill>
                <a:latin typeface="Arial"/>
              </a:rPr>
              <a:t>MIN:    Z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= </a:t>
            </a:r>
            <a:r>
              <a:rPr b="0" lang="es-ES_tradnl" sz="3600" spc="-1" strike="noStrike">
                <a:solidFill>
                  <a:srgbClr val="99cc00"/>
                </a:solidFill>
                <a:latin typeface="Arial"/>
              </a:rPr>
              <a:t>...</a:t>
            </a:r>
            <a:r>
              <a:rPr b="1" lang="es-ES_tradnl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+</a:t>
            </a:r>
            <a:r>
              <a:rPr b="1" lang="es-ES_tradnl" sz="3600" spc="-1" strike="noStrike">
                <a:solidFill>
                  <a:srgbClr val="99cc00"/>
                </a:solidFill>
                <a:latin typeface="Arial"/>
              </a:rPr>
              <a:t> M . 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µ</a:t>
            </a:r>
            <a:r>
              <a:rPr b="1" lang="en-US" sz="36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lang="es-ES_tradnl" sz="3600" spc="-1" strike="noStrike">
                <a:solidFill>
                  <a:srgbClr val="99cc00"/>
                </a:solidFill>
                <a:latin typeface="Arial"/>
              </a:rPr>
              <a:t> 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141720"/>
            <a:ext cx="2663640" cy="1079280"/>
          </a:xfrm>
          <a:custGeom>
            <a:avLst/>
            <a:gdLst/>
            <a:ahLst/>
            <a:rect l="l" t="t" r="r" b="b"/>
            <a:pathLst>
              <a:path w="1678" h="680">
                <a:moveTo>
                  <a:pt x="0" y="680"/>
                </a:moveTo>
                <a:lnTo>
                  <a:pt x="0" y="0"/>
                </a:lnTo>
                <a:lnTo>
                  <a:pt x="1587" y="453"/>
                </a:lnTo>
                <a:lnTo>
                  <a:pt x="1678" y="680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24000" y="333360"/>
          <a:ext cx="8351640" cy="276696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-1.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5280" y="3284640"/>
          <a:ext cx="8352000" cy="276696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8120"/>
                <a:gridCol w="822240"/>
                <a:gridCol w="820800"/>
                <a:gridCol w="822240"/>
                <a:gridCol w="824040"/>
                <a:gridCol w="820440"/>
                <a:gridCol w="824040"/>
                <a:gridCol w="8780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3995640" y="270828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06064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191628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3141720"/>
            <a:ext cx="2663640" cy="1079280"/>
          </a:xfrm>
          <a:custGeom>
            <a:avLst/>
            <a:gdLst/>
            <a:ahLst/>
            <a:rect l="l" t="t" r="r" b="b"/>
            <a:pathLst>
              <a:path w="1678" h="680">
                <a:moveTo>
                  <a:pt x="0" y="680"/>
                </a:moveTo>
                <a:lnTo>
                  <a:pt x="0" y="0"/>
                </a:lnTo>
                <a:lnTo>
                  <a:pt x="1587" y="453"/>
                </a:lnTo>
                <a:lnTo>
                  <a:pt x="1678" y="680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24000" y="189000"/>
          <a:ext cx="8351640" cy="1185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24000" y="981000"/>
          <a:ext cx="8351640" cy="200808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203640" y="256536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55736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141300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2924280"/>
          <a:ext cx="8351640" cy="201600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9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4000" y="4842000"/>
          <a:ext cx="8351640" cy="215892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9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1,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6,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6.076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516720" y="4508640"/>
            <a:ext cx="144360" cy="215640"/>
          </a:xfrm>
          <a:prstGeom prst="upArrow">
            <a:avLst>
              <a:gd name="adj1" fmla="val 50000"/>
              <a:gd name="adj2" fmla="val 373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06864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292428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5T19:41:02Z</dcterms:created>
  <dc:creator>Miguel Miranda</dc:creator>
  <dc:description/>
  <dc:language>en-US</dc:language>
  <cp:lastModifiedBy>Miguel Miranda</cp:lastModifiedBy>
  <dcterms:modified xsi:type="dcterms:W3CDTF">2006-03-20T22:17:02Z</dcterms:modified>
  <cp:revision>35</cp:revision>
  <dc:subject/>
  <dc:title>CASOS PARTICULARES</dc:title>
</cp:coreProperties>
</file>